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37FA1-0FCA-48FD-97AF-C1BA08674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47FA6-DB83-4172-B882-89511A701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4C2FE-0901-4E6D-BAE5-7D221B1ED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25020-AD19-4954-AE46-8ED5C3C1F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0DA3B-4B82-4FE5-BEF9-BCCBF4BA3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B53DD-E6F5-40DA-BAFD-E69A12B28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3BD47-F687-4984-A114-4129800ED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867B0-65DD-47F2-B8A2-78DD9378F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3B581-5283-4C2F-A8D6-FDE11F740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F4862-4930-4FF8-B294-18D5E5D5E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358BA-B321-46D4-8BB9-E072C40F5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9696F-1FD9-4001-A0EA-E69A23A67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1E34D-F1AB-4593-9042-6DCFF193A46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6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6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6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668320" y="1981080"/>
            <a:ext cx="33976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Etiologic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</a:t>
            </a: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Fractio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838080" y="838080"/>
            <a:ext cx="7620120" cy="51818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7162920" y="4724280"/>
            <a:ext cx="129528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990720" y="685800"/>
            <a:ext cx="739116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5438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838080" y="838080"/>
            <a:ext cx="739152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739152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143000" y="685800"/>
            <a:ext cx="7010280" cy="28954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1143000" y="3581280"/>
            <a:ext cx="70102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914400" y="3352680"/>
            <a:ext cx="7010280" cy="9907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914400" y="838080"/>
            <a:ext cx="7010280" cy="25146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914400" y="4343400"/>
            <a:ext cx="70102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990720" y="3505320"/>
            <a:ext cx="7162560" cy="10252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990720" y="762120"/>
            <a:ext cx="7162560" cy="27432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362320" y="4572000"/>
            <a:ext cx="396216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600200" y="3886200"/>
            <a:ext cx="5562720" cy="9810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990720" y="533520"/>
            <a:ext cx="7010280" cy="33526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1600200" y="4876920"/>
            <a:ext cx="556272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762120" y="685800"/>
            <a:ext cx="777240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371600" y="1752480"/>
            <a:ext cx="6477120" cy="31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066680" y="762120"/>
            <a:ext cx="716292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990720" y="762120"/>
            <a:ext cx="716256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914400" y="609480"/>
            <a:ext cx="73152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914400" y="838080"/>
            <a:ext cx="746748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914400" y="609480"/>
            <a:ext cx="7391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914400"/>
            <a:ext cx="6858000" cy="22860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1143000" y="3200400"/>
            <a:ext cx="68580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990720" y="685800"/>
            <a:ext cx="731520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6T01:37:56Z</dcterms:created>
  <dc:creator>david g. kleinbaum</dc:creator>
  <dc:description/>
  <dc:language>en-US</dc:language>
  <cp:lastModifiedBy>dkleinb</cp:lastModifiedBy>
  <dcterms:modified xsi:type="dcterms:W3CDTF">2003-10-14T14:29:01Z</dcterms:modified>
  <cp:revision>207</cp:revision>
  <dc:subject/>
  <dc:title>Slide 1</dc:title>
</cp:coreProperties>
</file>